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6.png" ContentType="image/png"/>
  <Override PartName="/ppt/media/image14.wmf" ContentType="image/x-wmf"/>
  <Override PartName="/ppt/media/image12.jpeg" ContentType="image/jpeg"/>
  <Override PartName="/ppt/media/image16.wmf" ContentType="image/x-wmf"/>
  <Override PartName="/ppt/media/image8.png" ContentType="image/png"/>
  <Override PartName="/ppt/media/image7.wmf" ContentType="image/x-wmf"/>
  <Override PartName="/ppt/media/image11.jpeg" ContentType="image/jpeg"/>
  <Override PartName="/ppt/media/image9.wmf" ContentType="image/x-wmf"/>
  <Override PartName="/ppt/media/image10.jpeg" ContentType="image/jpeg"/>
  <Override PartName="/ppt/media/image13.wmf" ContentType="image/x-wmf"/>
  <Override PartName="/ppt/media/image31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5.wmf" ContentType="image/x-wmf"/>
  <Override PartName="/ppt/media/image17.wmf" ContentType="image/x-wmf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jpeg" ContentType="image/jpeg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983413" cy="10148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4661-94D8-422D-9B64-AC66F401C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DF4F-8B0B-4E72-847C-9B61D9BE4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5175-E1AD-435D-9556-132DF516D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8BC62-EFF8-4DE5-B9E8-FAC87040D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77773-3824-4160-B988-6EFB9FD23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6B31D-E742-4915-BF73-FF0E02C1E6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E1549A-17AF-431F-92CE-1FC31346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EDA290-6BE1-4799-B809-7B189ADF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01516E-A4EA-47BD-9DB0-2DC780F8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9C04C-434A-4BA3-9ACE-7040A76A18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01740C-17C4-4FC7-92AB-3853AAE1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4182F7-F494-45B4-B1F2-2FF416F9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5CEF7C-A2EC-443D-8B74-79A2E9FD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F63AF3-71F5-4FA8-A584-3A4847C5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6542B9-92A1-497A-8201-9BBB07B3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A6ECB-B647-422F-81E2-E2DB1B96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ABABD8-6F65-40E5-AEB5-12E3235D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C6CFE6-1A6A-4A3E-B963-ECC15D94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DF7E2B-8A4A-4D70-8098-4751F970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9C1C81-AF4A-49D8-9349-0849022F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5BBAB-FD48-4DD0-BA99-8143BF5585D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F78B75-52C2-4427-8E2E-41E97013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D21533-CFE0-4BD7-A10F-3C0F7CDD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3BEED4-DB47-4805-914D-64F5A665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E5973D-1527-4167-85BE-099C0D78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60F1D7-4344-4943-A172-A3ECA87B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DE60D9-236B-4352-B6A1-5D532FDA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F31B09-F21A-4165-B591-E80AA0D0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FFE757-EE1B-40DF-8BFF-775BAFC7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056DD6-15A4-429F-9DE3-8E24B381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A26833-7A0A-4794-88AB-E38D28CC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63EFA-0E78-4198-948D-1AF7AFD94C8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24CD6D-F09F-4490-BCB0-9A7605DC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24FB29-8E83-4098-9326-7622D771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D37B14-33B9-42C3-AE46-AE2DDCAB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1D74F5-1C78-4C2F-A51C-A25A1D19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605831-FB9F-40CA-8A84-000DE13E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89E65C-3F0D-4C0A-AFBA-757B7FEA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2931B0-F2BB-4FEF-8FC3-87DD64F2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03EDA7-0876-4295-9E6A-75228F06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ABCEE7-76DA-4979-9D0F-4703B04D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D151CD-6592-4DD2-A91F-F66EFEA0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68B8A-C3DB-4DAA-9E84-D80A24CBCF7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11CC01-E3B3-45EF-9C82-71BF961C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9CF6E0-7AFA-44CC-8086-C2FA3153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A1BA04-FFB8-42AB-8CCB-FDDB128F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7D1F1-8E30-41DC-95CD-23DB9CEDC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FAFB9-D1C3-46AD-9679-0FACCF0C2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459C-3A9D-46E9-9BA5-DE995CB509E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731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14760" y="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K. Long, </a:t>
            </a:r>
            <a:fld id="{4B4AE529-9BB2-48E9-BBA9-854F83C7C5AD}" type="datetime3"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July 30, 2026</a:t>
            </a:fld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99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99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b716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99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3429000" y="638136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540C-FF5F-4075-B817-A81E1523F709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48765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611280" y="640080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050922 ISS Physic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339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V. Palladino:Super Conventional Bea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CF0D-1D27-43A5-A3B6-2920E53B0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ＭＳ Ｐゴシック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ＭＳ Ｐゴシック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8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17C7-AE83-4E75-915E-ED4B8A8A4D77}" type="datetime">
              <a: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9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0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076B-66F3-4CC0-8023-ED661CC7CB89}" type="slidenum"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3353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ＭＳ Ｐゴシック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ＭＳ Ｐゴシック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1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FA56-2F6D-44B4-ADC8-DF1EB085E7CA}" type="datetime">
              <a: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2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86FB-2BE2-45DB-878B-9C09B6E3E45D}" type="slidenum"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wmf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rcRect l="2233" t="2712" r="2200" b="4278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 most challenging task: 2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730080"/>
            <a:ext cx="6372360" cy="6127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372360" y="787320"/>
            <a:ext cx="277164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crementa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mplication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ait until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Arial"/>
              </a:rPr>
              <a:t>13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know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o refut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ave to show that there exists a facility that gives significant improvement over all </a:t>
            </a:r>
            <a:r>
              <a:rPr b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chine assumptions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uper-beam and Neutrino Factory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80720" y="88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i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60360" y="1332000"/>
            <a:ext cx="6732720" cy="5526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407280" y="6292800"/>
            <a:ext cx="24742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ly, one sig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chine assumptions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Beta-beam, reference facility (100/100)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39480" y="1443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nedi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936720" y="1413000"/>
            <a:ext cx="7235640" cy="54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chine assumptions: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Green-field facility (350/350)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38680" y="1792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Lindroos/Hernande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06320" y="1379520"/>
            <a:ext cx="77295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mpact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Large scale structure: Kachelreis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Power-density of CMB has significant implications for neutrino mas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Challenges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of neutrino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physics: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King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5940360" cy="4449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132000" y="5805360"/>
            <a:ext cx="3888000" cy="57636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mpact: … model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Tri-bimaximal mixing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Hypothesis: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ff"/>
                </a:solidFill>
                <a:latin typeface="Arial"/>
              </a:rPr>
              <a:t>Motivated by ‘symmetry’</a:t>
            </a:r>
            <a:endParaRPr b="1" lang="en-US" sz="20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odels: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Links quarks and leptons</a:t>
            </a:r>
            <a:endParaRPr b="1" lang="en-US" sz="2000" spc="-1" strike="noStrike">
              <a:solidFill>
                <a:srgbClr val="ff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826920" y="5661000"/>
            <a:ext cx="7561440" cy="576360"/>
            <a:chOff x="826920" y="5661000"/>
            <a:chExt cx="7561440" cy="576360"/>
          </a:xfrm>
        </p:grpSpPr>
        <p:sp>
          <p:nvSpPr>
            <p:cNvPr id="330" name=""/>
            <p:cNvSpPr/>
            <p:nvPr/>
          </p:nvSpPr>
          <p:spPr>
            <a:xfrm>
              <a:off x="826920" y="5661000"/>
              <a:ext cx="5040360" cy="576360"/>
            </a:xfrm>
            <a:prstGeom prst="rect">
              <a:avLst/>
            </a:prstGeom>
            <a:noFill/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67280" y="5950080"/>
              <a:ext cx="2174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84720" y="5670720"/>
              <a:ext cx="230364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Constraint!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250120" y="144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The Muon Trio:</a:t>
            </a:r>
            <a:endParaRPr b="0" lang="en-US" sz="32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pton Flavor Viol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on MDM (g-2)          </a:t>
            </a:r>
            <a:r>
              <a:rPr b="0" lang="en-US" sz="2800" spc="-1" strike="noStrike">
                <a:solidFill>
                  <a:srgbClr val="ed032a"/>
                </a:solidFill>
                <a:latin typeface="Comic Sans MS"/>
              </a:rPr>
              <a:t>chiral changing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on ED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19200" y="3352680"/>
            <a:ext cx="7707240" cy="768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1876320" y="4248000"/>
            <a:ext cx="4691160" cy="4557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2162160" y="6126120"/>
            <a:ext cx="6307200" cy="4618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1590840" y="5165640"/>
            <a:ext cx="7229160" cy="9414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881520" y="3200400"/>
            <a:ext cx="4728960" cy="10764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5"/>
          <a:srcRect l="3941" t="6107" r="3941" b="6107"/>
          <a:stretch/>
        </p:blipFill>
        <p:spPr>
          <a:xfrm>
            <a:off x="5181480" y="685800"/>
            <a:ext cx="3432240" cy="21099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6"/>
          <a:srcRect l="0" t="7682" r="0" b="5764"/>
          <a:stretch/>
        </p:blipFill>
        <p:spPr>
          <a:xfrm>
            <a:off x="685800" y="1066680"/>
            <a:ext cx="3048120" cy="16574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7"/>
          <a:stretch/>
        </p:blipFill>
        <p:spPr>
          <a:xfrm>
            <a:off x="5410080" y="917640"/>
            <a:ext cx="3200400" cy="24066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7440" y="9216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ee Rober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55440" y="92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ll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D85856-68A9-45C9-A578-C3F35D15C6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b716"/>
                </a:solidFill>
                <a:latin typeface="Comic Sans MS"/>
              </a:rPr>
              <a:t>General Statements</a:t>
            </a:r>
            <a:endParaRPr b="0" lang="en-US" sz="36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know that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oscill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neutral lepton flavor violation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pect Charged lepton flavor violation at som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nhanced if there is new dynamics at the TeV scale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n particular if there is SUSY</a:t>
            </a:r>
            <a:endParaRPr b="0" lang="en-US" sz="2400" spc="-1" strike="noStrike">
              <a:solidFill>
                <a:srgbClr val="ff6699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expect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P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n the lepton sector    (EDMs as well as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oscillations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possible connection with cosmology (leptogenesis) 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2971800" y="4572000"/>
            <a:ext cx="609480" cy="3808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BFFCEA-F9DE-4D75-A832-A0CECFD337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At a </a:t>
            </a:r>
            <a:r>
              <a:rPr b="0" i="1" lang="en-US" sz="3200" spc="-1" strike="noStrike">
                <a:solidFill>
                  <a:srgbClr val="f0b716"/>
                </a:solidFill>
                <a:latin typeface="Symbol"/>
                <a:ea typeface="Symbol"/>
              </a:rPr>
              <a:t></a:t>
            </a: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-factory, also have a </a:t>
            </a:r>
            <a:r>
              <a:rPr b="0" i="1" lang="en-US" sz="3200" spc="-1" strike="noStrike">
                <a:solidFill>
                  <a:srgbClr val="f0b716"/>
                </a:solidFill>
                <a:latin typeface="Symbol"/>
                <a:ea typeface="Symbol"/>
              </a:rPr>
              <a:t></a:t>
            </a: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-factory </a:t>
            </a:r>
            <a:endParaRPr b="0" lang="en-US" sz="32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flux will permit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A dedicated search for a permanent muon EDM ( P, T ) to 10</a:t>
            </a:r>
            <a:r>
              <a:rPr b="0" lang="en-US" sz="2800" spc="-1" strike="noStrike" baseline="30000">
                <a:solidFill>
                  <a:srgbClr val="66ccff"/>
                </a:solidFill>
                <a:latin typeface="Comic Sans MS"/>
              </a:rPr>
              <a:t>-24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e cm and beyond.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Search for muon Flavor Violation to below 10</a:t>
            </a:r>
            <a:r>
              <a:rPr b="0" lang="en-US" sz="2800" spc="-1" strike="noStrike" baseline="30000">
                <a:solidFill>
                  <a:srgbClr val="66ccff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to 10</a:t>
            </a:r>
            <a:r>
              <a:rPr b="0" lang="en-US" sz="2800" spc="-1" strike="noStrike" baseline="30000">
                <a:solidFill>
                  <a:srgbClr val="66ccff"/>
                </a:solidFill>
                <a:latin typeface="Comic Sans MS"/>
              </a:rPr>
              <a:t>-19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level, or if </a:t>
            </a:r>
            <a:r>
              <a:rPr b="0" i="1" lang="en-US" sz="2800" spc="-1" strike="noStrike">
                <a:solidFill>
                  <a:srgbClr val="66ccff"/>
                </a:solidFill>
                <a:latin typeface="Symbol"/>
                <a:ea typeface="Symbol"/>
              </a:rPr>
              <a:t>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FV is observed, it will be possible to make detailed studies of the reaction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600200" y="5486400"/>
            <a:ext cx="5791320" cy="482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 flipH="1">
            <a:off x="2819520" y="2362320"/>
            <a:ext cx="304560" cy="30456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346480" y="2351160"/>
            <a:ext cx="304560" cy="30456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3604C9-E77F-4103-B9E6-5CA766F16F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First steps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owards physics chapter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8960" cy="68580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5000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4140360" y="0"/>
            <a:ext cx="5003640" cy="6858000"/>
            <a:chOff x="4140360" y="0"/>
            <a:chExt cx="5003640" cy="6858000"/>
          </a:xfrm>
        </p:grpSpPr>
        <p:sp>
          <p:nvSpPr>
            <p:cNvPr id="358" name=""/>
            <p:cNvSpPr/>
            <p:nvPr/>
          </p:nvSpPr>
          <p:spPr>
            <a:xfrm>
              <a:off x="4140360" y="3068640"/>
              <a:ext cx="5003640" cy="37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3"/>
            <a:stretch/>
          </p:blipFill>
          <p:spPr>
            <a:xfrm>
              <a:off x="4140360" y="0"/>
              <a:ext cx="5003640" cy="433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hysics working grou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116000" y="3492000"/>
            <a:ext cx="7672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(not quite a) summary and plan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02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…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with grateful thanks to PhysWG speakers and those w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took part in the discuss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580000" y="4873680"/>
            <a:ext cx="3564000" cy="19843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66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712800"/>
            <a:ext cx="5576760" cy="61452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opose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580000" y="761760"/>
            <a:ext cx="356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Series of w/ss to focus work and to share tools and idea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Each w/s documents progress and identifies next step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Need to specify goals for first workshop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his week!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2276640"/>
            <a:ext cx="5580000" cy="470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lan to run as a ‘drop in centre’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cognises that not all can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ome for all the days … though great if you c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eekend included for those that it helps with tra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orking meeting – emphasis on discussion and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pecific goals now defined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WW page to be upda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ommon tools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Enhance efficiency of those new to calculating sensitivities to oscillation parameter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rcRect l="8078" t="2397" r="8167" b="1871"/>
          <a:stretch/>
        </p:blipFill>
        <p:spPr>
          <a:xfrm>
            <a:off x="1835280" y="2354400"/>
            <a:ext cx="5257800" cy="4503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8046360" y="14436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ub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oretical subgroup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Main task: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What is scientific gain of precision measurements of neutrino properties?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Origin of universe … c.f.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Origin of mass for LHC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Super-symmetry – the last space-time symmetry – for ILC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Neutrino mass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Argument presented by Pilar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Job in preparation for w/s #1: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est to see if ‘origin of universe’ argument could be developed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Steve King (with KL as naïve follower)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Development of mass-scale arguments 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Andre de Gouvea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91960" y="907920"/>
            <a:ext cx="76359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Marlett"/>
                <a:ea typeface="Marlett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itivity to unitarity and physics beyond S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8000" y="1628640"/>
            <a:ext cx="8346960" cy="9471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ndard scenario assumes three flavors and vanishing off-diagonal elements of the matter term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0920" y="5516640"/>
            <a:ext cx="8346960" cy="5205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Wingdings 3"/>
                <a:ea typeface="Wingdings 3"/>
              </a:rPr>
              <a:t>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enario 1: existence of sterile neutrin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0920" y="6159600"/>
            <a:ext cx="8346960" cy="6426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Wingdings 3"/>
                <a:ea typeface="Wingdings 3"/>
              </a:rPr>
              <a:t>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enario 2: existence of flavor changing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79280" y="2781360"/>
                <a:ext cx="541332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250920" y="4869000"/>
            <a:ext cx="65530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le source of violation of unitarit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-11160"/>
            <a:ext cx="914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ＭＳ Ｐゴシック"/>
                <a:ea typeface="ＭＳ Ｐゴシック"/>
              </a:rPr>
              <a:t>Phenomenological subgroup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14880" y="1159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Yasu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76520" y="3378240"/>
            <a:ext cx="2856960" cy="8254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recision requi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o test scenario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E6EEEE32-FE74-429E-9314-0CE47778F7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Pheno/Experimental subgrou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Calculate sensitivity in </a:t>
            </a:r>
            <a:r>
              <a:rPr b="1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ffff99"/>
                </a:solidFill>
                <a:latin typeface="Arial"/>
              </a:rPr>
              <a:t>13</a:t>
            </a: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 - </a:t>
            </a:r>
            <a:r>
              <a:rPr b="1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</a:t>
            </a: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 plane:</a:t>
            </a:r>
            <a:endParaRPr b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Two reference superbeams SPL, T2K, NOvA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Obtain BNL info for w/s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Two reference beta-beams (100/100), (350/350)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Baselines: 130, 700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Two reference neutrino factories (20, 50) – assume store both charges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selines 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Define reference 1000, 3000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… </a:t>
            </a: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but hope that some optimisation can be done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AEDL for options to be posted on WWW</a:t>
            </a:r>
            <a:endParaRPr b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Action: Patrick Huber/KL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Comparison of results: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From GLOBES: Patrick Huber, Paul Harrison (et al)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From ‘Valencia code’: Pilar Hernandez (et al)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From ‘Madrid code’: Stefano Rigolin (et al.)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What: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Perform fits for small number of assumed parameter sets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Comment on discrete degeneracies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Goal is to establish a baseline for development of comparison of facilities alone and in combination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Need i/p from detector group … detector performance assumptions:</a:t>
            </a:r>
            <a:endParaRPr b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Suggest: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Iron Cal: MINOS + high granularity - for NF for 14Nov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LAr?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H</a:t>
            </a:r>
            <a:r>
              <a:rPr b="1" lang="en-GB" sz="1400" spc="-1" strike="noStrike" baseline="-25000">
                <a:solidFill>
                  <a:srgbClr val="ffccff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O </a:t>
            </a:r>
            <a:r>
              <a:rPr b="1" lang="en-US" sz="1400" spc="-1" strike="noStrike">
                <a:solidFill>
                  <a:srgbClr val="ffccff"/>
                </a:solidFill>
                <a:latin typeface="Arial"/>
                <a:ea typeface="Arial"/>
              </a:rPr>
              <a:t>Ç – for sb and low gamma beta beam for 14Nov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ff"/>
                </a:solidFill>
                <a:latin typeface="Arial"/>
                <a:ea typeface="Arial"/>
              </a:rPr>
              <a:t>Scint – for high gamma beta beam for 14Nov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ff"/>
                </a:solidFill>
                <a:latin typeface="Arial"/>
                <a:ea typeface="Arial"/>
              </a:rPr>
              <a:t>Emmulsion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 challenging programme …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but at least we’ll have started!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Introduction and motivation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The most difficult task (!)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What to assume about the machine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Impac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Muon physic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Work to do in preparation for first phys. grp. w/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Theoretical subgroup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Phenomenological subgroup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Experimental subgroup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2160"/>
            <a:ext cx="914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The neutrino standard model?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hree active flavour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hree, Dirac, mass eigenstate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Neutrino mass scale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Mass hierarchy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MNS mixing matrix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Three mixing angles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One CP phase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Physics beyond </a:t>
            </a:r>
            <a:r>
              <a:rPr b="1" i="1" lang="en-GB" sz="3200" spc="-1" strike="noStrike">
                <a:solidFill>
                  <a:srgbClr val="ffff99"/>
                </a:solidFill>
                <a:latin typeface="Arial"/>
              </a:rPr>
              <a:t>The</a:t>
            </a: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 Standard Mod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93600" y="3716280"/>
                <a:ext cx="901548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e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μ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τ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i</m:t>
                                  </m:r>
                                  <m:r>
                                    <m:t xml:space="preserve">δ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372360" y="1276200"/>
            <a:ext cx="27716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tivation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3635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he masses are so different, that must be a clue …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Neutrino mixing so different from quark mixing, that must be clue …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635280" y="781200"/>
            <a:ext cx="5508720" cy="2719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rcRect l="0" t="0" r="1346" b="0"/>
          <a:stretch/>
        </p:blipFill>
        <p:spPr>
          <a:xfrm>
            <a:off x="3568680" y="4581360"/>
            <a:ext cx="5575320" cy="16146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588280" y="14112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e Gouvea, Hernand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39927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tivation: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e era of sensitivity …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2611440"/>
            <a:ext cx="9144000" cy="4249080"/>
            <a:chOff x="0" y="2611440"/>
            <a:chExt cx="9144000" cy="4249080"/>
          </a:xfrm>
        </p:grpSpPr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0" y="2611440"/>
              <a:ext cx="9144000" cy="42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440" y="6400800"/>
              <a:ext cx="1738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de Gouve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911760" y="74124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nand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2556000" y="3429000"/>
            <a:ext cx="4000320" cy="3429000"/>
            <a:chOff x="2556000" y="3429000"/>
            <a:chExt cx="4000320" cy="3429000"/>
          </a:xfrm>
        </p:grpSpPr>
        <p:sp>
          <p:nvSpPr>
            <p:cNvPr id="264" name=""/>
            <p:cNvSpPr/>
            <p:nvPr/>
          </p:nvSpPr>
          <p:spPr>
            <a:xfrm>
              <a:off x="2556000" y="3429000"/>
              <a:ext cx="4000320" cy="342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1"/>
            <a:srcRect l="0" t="7231" r="7741" b="2337"/>
            <a:stretch/>
          </p:blipFill>
          <p:spPr>
            <a:xfrm>
              <a:off x="2556000" y="3470400"/>
              <a:ext cx="3456000" cy="33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358160" y="3645000"/>
              <a:ext cx="15004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Neutrino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Factory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Symbol"/>
                  <a:ea typeface="Symbol"/>
                </a:rPr>
                <a:t>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Super-beam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4797360" y="4930560"/>
              <a:ext cx="293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66"/>
                  </a:solidFill>
                  <a:latin typeface="Arial"/>
                </a:rPr>
                <a:t>O.Mena (hep-ph/0503097)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tivation: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… and precision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765000"/>
            <a:ext cx="9144000" cy="26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1254240"/>
            <a:ext cx="9144000" cy="2174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535720" y="83664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Burguet et al. (hep-ph/0503021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" y="7650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Beta-be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438360"/>
            <a:ext cx="9144000" cy="0"/>
          </a:xfrm>
          <a:prstGeom prst="line">
            <a:avLst/>
          </a:prstGeom>
          <a:ln w="76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-2880" y="9036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Two main physics strateg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9280" y="765000"/>
            <a:ext cx="8964720" cy="265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of  the high neutrino rate (&gt;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year) and energy (10-50 GeV) of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ino Factory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MD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(“SuperMinos”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tector of large but not huge mass (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50-100 K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cessarily magnet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 dense magnetized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ro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detector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or, possibly, Li-Argon),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few 1000 Km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way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9280" y="3573360"/>
            <a:ext cx="8964720" cy="375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of the lower neutrino rate (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18-19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year) and energy (sub-GeV) o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Betabeam + “Megaton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w density detector of very large mass (0.5-1 Mt)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d volume       (0.5-1 Mm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n magnetic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ater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Cerenkov detector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or possibly, again Li-Argon),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fe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100 Km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way (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except for AG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66760" y="1936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5040" y="1484280"/>
            <a:ext cx="168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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76360" y="1628640"/>
            <a:ext cx="14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2360" y="4365720"/>
            <a:ext cx="95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6920" y="27288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Nufact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00" y="58514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NNN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17520" y="3816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Palladi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400800"/>
            <a:ext cx="339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cc"/>
                </a:solidFill>
                <a:latin typeface="Times New Roman"/>
              </a:rPr>
              <a:t>V. Palladino:Super Conventional Beams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60" y="3137760"/>
            <a:ext cx="9055080" cy="581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&amp;D into machine (MERIT, MICE, …) essent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61C4FE03-E02D-44E3-8AB9-F5A834C2D3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 most challenging task: 1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60360" y="190800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Increment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4920" y="771480"/>
            <a:ext cx="6624720" cy="608652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3884760" y="1176480"/>
            <a:ext cx="2417760" cy="2950920"/>
            <a:chOff x="3884760" y="1176480"/>
            <a:chExt cx="2417760" cy="2950920"/>
          </a:xfrm>
        </p:grpSpPr>
        <p:sp>
          <p:nvSpPr>
            <p:cNvPr id="290" name=""/>
            <p:cNvSpPr/>
            <p:nvPr/>
          </p:nvSpPr>
          <p:spPr>
            <a:xfrm>
              <a:off x="3884760" y="1176480"/>
              <a:ext cx="2417760" cy="580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ra of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nsitivity &amp; precis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62920" y="1811520"/>
              <a:ext cx="0" cy="231588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725480" y="762120"/>
            <a:ext cx="7418520" cy="6095880"/>
            <a:chOff x="1725480" y="762120"/>
            <a:chExt cx="7418520" cy="6095880"/>
          </a:xfrm>
        </p:grpSpPr>
        <p:grpSp>
          <p:nvGrpSpPr>
            <p:cNvPr id="293" name=""/>
            <p:cNvGrpSpPr/>
            <p:nvPr/>
          </p:nvGrpSpPr>
          <p:grpSpPr>
            <a:xfrm>
              <a:off x="2700360" y="762120"/>
              <a:ext cx="6443640" cy="6095880"/>
              <a:chOff x="2700360" y="762120"/>
              <a:chExt cx="6443640" cy="60958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2700360" y="765000"/>
                <a:ext cx="6443640" cy="6093000"/>
                <a:chOff x="2700360" y="765000"/>
                <a:chExt cx="6443640" cy="60930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492360" y="765000"/>
                  <a:ext cx="5651640" cy="6093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" name=""/>
                <p:cNvGrpSpPr/>
                <p:nvPr/>
              </p:nvGrpSpPr>
              <p:grpSpPr>
                <a:xfrm>
                  <a:off x="2700360" y="771480"/>
                  <a:ext cx="1800360" cy="6086520"/>
                  <a:chOff x="2700360" y="771480"/>
                  <a:chExt cx="1800360" cy="6086520"/>
                </a:xfrm>
              </p:grpSpPr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2700360" y="771480"/>
                    <a:ext cx="1800360" cy="6086520"/>
                    <a:chOff x="2700360" y="771480"/>
                    <a:chExt cx="1800360" cy="6086520"/>
                  </a:xfrm>
                </p:grpSpPr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rcRect l="78267" t="0" r="0" b="0"/>
                    <a:stretch/>
                  </p:blipFill>
                  <p:spPr>
                    <a:xfrm>
                      <a:off x="3060720" y="771480"/>
                      <a:ext cx="1440000" cy="608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9" name="" descr=""/>
                    <p:cNvPicPr/>
                    <p:nvPr/>
                  </p:nvPicPr>
                  <p:blipFill>
                    <a:blip r:embed="rId3"/>
                    <a:srcRect l="41314" t="85081" r="33693" b="0"/>
                    <a:stretch/>
                  </p:blipFill>
                  <p:spPr>
                    <a:xfrm>
                      <a:off x="2700360" y="5950080"/>
                      <a:ext cx="1656000" cy="90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300" name=""/>
                  <p:cNvSpPr/>
                  <p:nvPr/>
                </p:nvSpPr>
                <p:spPr>
                  <a:xfrm>
                    <a:off x="3059280" y="2924280"/>
                    <a:ext cx="72720" cy="129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1" name=""/>
              <p:cNvSpPr/>
              <p:nvPr/>
            </p:nvSpPr>
            <p:spPr>
              <a:xfrm>
                <a:off x="4572000" y="762120"/>
                <a:ext cx="4572000" cy="609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buClr>
                    <a:srgbClr val="ccff33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99"/>
                    </a:solidFill>
                    <a:latin typeface="Arial"/>
                  </a:rPr>
                  <a:t>Optimum schedule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Science driven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Potential match to funding window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buClr>
                    <a:srgbClr val="ccff33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99"/>
                    </a:solidFill>
                    <a:latin typeface="Arial"/>
                  </a:rPr>
                  <a:t>Challenge: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To make the case!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725480" y="1138320"/>
              <a:ext cx="2417760" cy="2950920"/>
              <a:chOff x="1725480" y="1138320"/>
              <a:chExt cx="2417760" cy="2950920"/>
            </a:xfrm>
          </p:grpSpPr>
          <p:sp>
            <p:nvSpPr>
              <p:cNvPr id="303" name=""/>
              <p:cNvSpPr/>
              <p:nvPr/>
            </p:nvSpPr>
            <p:spPr>
              <a:xfrm>
                <a:off x="1725480" y="1138320"/>
                <a:ext cx="2417760" cy="580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Era of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ensitivity &amp; precisio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03640" y="1773360"/>
                <a:ext cx="0" cy="231588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3:55:13Z</dcterms:created>
  <dc:creator>long</dc:creator>
  <dc:description/>
  <dc:language>en-US</dc:language>
  <cp:lastModifiedBy>long</cp:lastModifiedBy>
  <dcterms:modified xsi:type="dcterms:W3CDTF">2005-09-24T07:11:09Z</dcterms:modified>
  <cp:revision>31</cp:revision>
  <dc:subject/>
  <dc:title>Introduction to Experimental sub-group</dc:title>
</cp:coreProperties>
</file>